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739-8534-45CB-90D0-4376E108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706-4B40-4C8B-ACF1-33F3C5AA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B60-E411-4B45-B3F4-1F612706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30F-C9BE-4C26-AB33-8066F717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8EA-98CB-4E69-AD0C-B85A001F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339-003E-47F0-A184-CB3E9E8A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E53-248B-4E6F-AA1B-7A4EF48A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1DE-6355-4C48-BF33-1E7E68FC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140-64FD-43A2-A32A-AFAEAADB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01A-89B8-43BE-A701-1F03969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43A-D8C4-44AA-B056-564EB7C7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E87-B633-4961-B81F-B5FD5790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E7D9-CF91-4099-8800-562E5018B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gre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Unit 3 Day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0400" y="2331720"/>
            <a:ext cx="54864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re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oduster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051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n American mi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nsas 187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d by “Pap” Single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his words, what would he say about African Americans’ opportunities in the Sou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legendsofkansas.com/people/Benjamin%20Pap%20Singleton-500.jpg"/>
          <p:cNvPicPr/>
          <p:nvPr/>
        </p:nvPicPr>
        <p:blipFill>
          <a:blip r:embed="rId2"/>
          <a:stretch/>
        </p:blipFill>
        <p:spPr>
          <a:xfrm>
            <a:off x="5638680" y="1523880"/>
            <a:ext cx="31813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ern Farm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ed Farmers’ National Al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90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2 million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nebraskahistory.org/images/publish/alliance.jpg"/>
          <p:cNvPicPr/>
          <p:nvPr/>
        </p:nvPicPr>
        <p:blipFill>
          <a:blip r:embed="rId2"/>
          <a:stretch/>
        </p:blipFill>
        <p:spPr>
          <a:xfrm>
            <a:off x="2209680" y="3352680"/>
            <a:ext cx="50342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mendment looph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o to p. 134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hat was the loopho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l 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$2 to regis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teracy t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ad and understand State Cons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andfather Claus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your ancestor voted before 186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vil Rights Act 1875 repea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mend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s passed Jim Crow L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lessy v. Fergus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r Ples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d being forced to sit in separate railc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eme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held “separate but equal” ru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rican American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a B. W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y Church Terr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er T. Washing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.E.B. du Bo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leader abo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pecifically did they fight again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id they achieve for African American righ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12:17:44Z</dcterms:created>
  <dc:creator>loftonm</dc:creator>
  <dc:description/>
  <dc:language>en-US</dc:language>
  <cp:lastModifiedBy>Sacerdote, Kevin R.</cp:lastModifiedBy>
  <dcterms:modified xsi:type="dcterms:W3CDTF">2016-10-18T12:08:24Z</dcterms:modified>
  <cp:revision>17</cp:revision>
  <dc:subject/>
  <dc:title>Segregation</dc:title>
</cp:coreProperties>
</file>